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whoosh.wav" ContentType="audio/x-wav"/>
  <Override PartName="/ppt/media/image2.png" ContentType="image/png"/>
  <Override PartName="/ppt/media/image9.jpeg" ContentType="image/jpeg"/>
  <Override PartName="/ppt/media/camera.wav" ContentType="audio/x-wav"/>
  <Override PartName="/ppt/media/image6.png" ContentType="image/png"/>
  <Override PartName="/ppt/media/image7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10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1C835-EFB5-4E38-AA92-5251E36FA2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71266-9833-48D8-A89E-E29D755695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CFF98-531A-4917-B30D-4BDE6428F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B80C3-2617-4E40-89B3-967E89FDF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F60B4-A694-419D-8893-F022FE74D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3F06A-049C-48FC-88D8-599ECC01F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2DD6D-A506-40A2-B6D2-81D6FB72C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9303A-96B7-49A1-81F6-EE8743C34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E7605-98FD-48C5-B8C7-B5A1A5ED2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7B997-A793-4660-A87F-84C8D8631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0A224-6D3B-43E8-A0C4-B857E23C1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2CC4A-53F5-4EFA-8796-BB418FEF6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9AED6-200B-4454-ADF3-0904BE2FF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F38B5-61E0-461D-8973-D44C3E418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8AE83-7046-42EE-8C13-EEAB67CAE8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whoosh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12"/>
          <p:cNvSpPr/>
          <p:nvPr/>
        </p:nvSpPr>
        <p:spPr>
          <a:xfrm>
            <a:off x="5217120" y="2209680"/>
            <a:ext cx="340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crosoft Sans Serif"/>
              </a:rPr>
              <a:t>Where does she work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4718880" y="1219320"/>
            <a:ext cx="29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arket"/>
              </a:rPr>
              <a:t>Where is she fro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1752480" y="304920"/>
            <a:ext cx="5943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D Note Pad"/>
              </a:rPr>
              <a:t>How long has she been a chef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5791320" y="2971800"/>
            <a:ext cx="1904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Scrap Brother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Scrap Brother"/>
              </a:rPr>
              <a:t>Is she creativ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4952880" y="4343400"/>
            <a:ext cx="2082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bel Bk BT"/>
              </a:rPr>
              <a:t>Is she smar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4191120" y="563868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D Artsy"/>
              </a:rPr>
              <a:t>Do you think she’s a good employe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19" descr="http://www.pinoyhalo.com/wp-content/uploads/2010/01/cristeta_comerford.jpg"/>
          <p:cNvPicPr/>
          <p:nvPr/>
        </p:nvPicPr>
        <p:blipFill>
          <a:blip r:embed="rId1"/>
          <a:stretch/>
        </p:blipFill>
        <p:spPr>
          <a:xfrm>
            <a:off x="228600" y="2209680"/>
            <a:ext cx="4398840" cy="32004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Object 2"/>
          <p:cNvGraphicFramePr/>
          <p:nvPr/>
        </p:nvGraphicFramePr>
        <p:xfrm>
          <a:off x="2286000" y="380880"/>
          <a:ext cx="4340160" cy="594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380880"/>
                    <a:ext cx="4340160" cy="5943600"/>
                  </a:xfrm>
                  <a:prstGeom prst="rect">
                    <a:avLst/>
                  </a:prstGeom>
                  <a:ln w="7632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Object 6"/>
          <p:cNvGraphicFramePr/>
          <p:nvPr/>
        </p:nvGraphicFramePr>
        <p:xfrm>
          <a:off x="2286000" y="380880"/>
          <a:ext cx="4432320" cy="6096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380880"/>
                    <a:ext cx="4432320" cy="6096240"/>
                  </a:xfrm>
                  <a:prstGeom prst="rect">
                    <a:avLst/>
                  </a:prstGeom>
                  <a:ln w="7632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765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Object 6"/>
          <p:cNvGraphicFramePr/>
          <p:nvPr/>
        </p:nvGraphicFramePr>
        <p:xfrm>
          <a:off x="2362320" y="228600"/>
          <a:ext cx="4430520" cy="640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228600"/>
                    <a:ext cx="4430520" cy="6400800"/>
                  </a:xfrm>
                  <a:prstGeom prst="rect">
                    <a:avLst/>
                  </a:prstGeom>
                  <a:ln w="7632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Object 7"/>
          <p:cNvGraphicFramePr/>
          <p:nvPr/>
        </p:nvGraphicFramePr>
        <p:xfrm>
          <a:off x="1828800" y="304920"/>
          <a:ext cx="5478480" cy="6324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304920"/>
                    <a:ext cx="5478480" cy="632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Object 4"/>
          <p:cNvGraphicFramePr/>
          <p:nvPr/>
        </p:nvGraphicFramePr>
        <p:xfrm>
          <a:off x="762120" y="228600"/>
          <a:ext cx="7791480" cy="6369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28600"/>
                    <a:ext cx="7791480" cy="636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5" descr="j0384682"/>
          <p:cNvPicPr/>
          <p:nvPr/>
        </p:nvPicPr>
        <p:blipFill>
          <a:blip r:embed="rId1"/>
          <a:stretch/>
        </p:blipFill>
        <p:spPr>
          <a:xfrm>
            <a:off x="1295280" y="1447920"/>
            <a:ext cx="6858000" cy="4997160"/>
          </a:xfrm>
          <a:prstGeom prst="rect">
            <a:avLst/>
          </a:prstGeom>
          <a:ln w="0">
            <a:noFill/>
          </a:ln>
        </p:spPr>
      </p:pic>
      <p:sp>
        <p:nvSpPr>
          <p:cNvPr id="66" name="Text Box 6"/>
          <p:cNvSpPr/>
          <p:nvPr/>
        </p:nvSpPr>
        <p:spPr>
          <a:xfrm>
            <a:off x="1066680" y="380880"/>
            <a:ext cx="72392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LD Elementary"/>
              </a:rPr>
              <a:t>    </a:t>
            </a:r>
            <a:r>
              <a:rPr b="0" lang="en-US" sz="6600" spc="-1" strike="noStrike">
                <a:solidFill>
                  <a:srgbClr val="000000"/>
                </a:solidFill>
                <a:latin typeface="LD Elementary"/>
              </a:rPr>
              <a:t>What is it?</a:t>
            </a:r>
            <a:r>
              <a:rPr b="0" lang="en-US" sz="2400" spc="-1" strike="noStrike">
                <a:solidFill>
                  <a:srgbClr val="000000"/>
                </a:solidFill>
                <a:latin typeface="Tabith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LD Elementary"/>
              </a:rPr>
              <a:t>What is it?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6" descr="Chicken Not-Pie"/>
          <p:cNvPicPr/>
          <p:nvPr/>
        </p:nvPicPr>
        <p:blipFill>
          <a:blip r:embed="rId1"/>
          <a:stretch/>
        </p:blipFill>
        <p:spPr>
          <a:xfrm>
            <a:off x="2590920" y="1752480"/>
            <a:ext cx="3840120" cy="32004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LD Elementary"/>
              </a:rPr>
              <a:t>What is it?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5" descr="Colorful Cupcakes"/>
          <p:cNvPicPr/>
          <p:nvPr/>
        </p:nvPicPr>
        <p:blipFill>
          <a:blip r:embed="rId1"/>
          <a:stretch/>
        </p:blipFill>
        <p:spPr>
          <a:xfrm>
            <a:off x="762120" y="1905120"/>
            <a:ext cx="2950920" cy="39621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7" descr="April Fools' Recipe Prank: Mock Sushi"/>
          <p:cNvPicPr/>
          <p:nvPr/>
        </p:nvPicPr>
        <p:blipFill>
          <a:blip r:embed="rId2"/>
          <a:stretch/>
        </p:blipFill>
        <p:spPr>
          <a:xfrm>
            <a:off x="4343400" y="2286000"/>
            <a:ext cx="4181400" cy="32767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7T20:57:04Z</dcterms:created>
  <dc:creator>Staff</dc:creator>
  <dc:description/>
  <dc:language>en-US</dc:language>
  <cp:lastModifiedBy>Teacher</cp:lastModifiedBy>
  <dcterms:modified xsi:type="dcterms:W3CDTF">2011-02-09T02:12:37Z</dcterms:modified>
  <cp:revision>15</cp:revision>
  <dc:subject/>
  <dc:title>PowerPoint Presentation</dc:title>
</cp:coreProperties>
</file>